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5EB-CD30-4384-9398-98278C96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7FA-6A3A-4FF8-A6EB-FD60B1FE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63E-27FE-4FCC-BCAC-1BF7B2BF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ECB-765E-449B-8ECB-7A5B17A5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8623-F6E3-4074-9678-6D4C8808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ED5A-6FAA-4460-9999-C1CD6594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35CE-92E7-4A87-A9B8-036ECC23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4083-6B65-4B3D-9E45-5852763B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D75F-8A77-4242-BF44-E22A500C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4E8B-901B-4FF2-B46A-DC1F13ED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F4BD-A072-4DD2-BF84-F7F7B862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6A0-5B60-41EA-AFFB-85722BDB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4F26-FD72-4680-B18A-644D6CA7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9186-AC01-4F38-B818-A08F1061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8511-E2C0-4871-BD52-2DC2D6EA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E790-9A3D-4634-983D-3AC79170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7A8B-4983-4BD3-ACB1-482BD2A3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010-F950-4866-8CDD-41FA591C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FA6-853D-45E8-A514-44971913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CEB-D629-4496-B0E0-83C902EC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A35-2923-4ECF-8545-9B2590C6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CF0-B990-4677-850A-4A664059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610-8456-4563-8C6C-34F8BCEC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788-65B1-4546-A01F-F38ACE87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4a1102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4a110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0FC7-8253-499D-87EA-45DA4891C3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4a1102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CBFC-FD5F-4786-8523-50FD0E309A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Iraq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8120" y="3657600"/>
            <a:ext cx="3085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RAQ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igri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uphra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lluvial Plai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457200"/>
            <a:ext cx="3985920" cy="2736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9880" y="3276720"/>
            <a:ext cx="42879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nufacturi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mmercial Farm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eat, Cotton, D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EMBAR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45720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aghda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cient Muslim empi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uslim Arab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ur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418608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merian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000 Years a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038480" y="838080"/>
            <a:ext cx="4496040" cy="2181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5067360" cy="308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410080" y="3200400"/>
            <a:ext cx="331812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958 dictatorship - Hussei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ran/Iraq W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990 – invade Kuwa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peration Iraqi Freedo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05320" y="4095720"/>
            <a:ext cx="2422440" cy="2762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5880" y="304920"/>
            <a:ext cx="26971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07:43Z</dcterms:created>
  <dc:creator>Cumberland County School</dc:creator>
  <dc:description/>
  <dc:language>en-US</dc:language>
  <cp:lastModifiedBy>Cumberland County School</cp:lastModifiedBy>
  <dcterms:modified xsi:type="dcterms:W3CDTF">2008-01-15T15:04:43Z</dcterms:modified>
  <cp:revision>3</cp:revision>
  <dc:subject/>
  <dc:title>Iraq</dc:title>
</cp:coreProperties>
</file>